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3EA2-E8A2-48B7-BF89-F2D153564A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D2DB-0774-445F-9B21-F598E28A67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1FEF-1D2F-43C1-949E-F5D27C5C54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 to quiz: 1 – F(1.2 billion)  2-T  3-F(training)  4-F(60%)  5-T  6-F(opposite: 8X more likely for women)  7-T  8-F(16 million)  9-T  10-F(pregnancy and childbir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9B2F-760D-4480-93BF-70F73FC4B8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D5B7-9706-4340-81B9-06213602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CB1-738C-4524-A98A-A8F1AE84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65E-E409-4E0C-96A5-1B6961E5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E8C-ED54-4B61-AA97-DA22ADBF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2F7-0C35-4008-A8DD-09A541B2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73D7-72CC-4752-8B99-2FB293A9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04A-03B8-4FA6-BA73-23B55CC3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E44-E848-4D9B-8F14-66EB7F48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02C6-4AAF-42E2-9281-AC16D75A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7678-2B65-4D1E-AC71-B955D079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988-2514-40C4-8DDD-89D84CF1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388-42FF-4289-ADC3-07738CB5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0F9B-F7C0-463D-B004-92D6373B2E0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Quiz about young people in the world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3600"/>
            </a:b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True or fals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41264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are 1 billion young people in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1% of the youth labour force is unemployed in Spain in 201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NEET” stands for “Neither in Employment, Education or Travel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is 50% youth unemployment in Af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44% of 15 – 24 year olds are underweight in Ind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 Sub-Saharan Africa, young men are up to 8 x more likely than young women to be HIV positi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legal marrying age in Iran is 13 for girls and 15 for boy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 million adolescent girls become mothers every year around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youth literacy rate is 74% in Africa, and 97% in Latin Ame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biggest killer of girls aged 15 – 19 is dise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62752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Now check the facts from this infographic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924280"/>
            <a:ext cx="48355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lick on this link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ttp://www.newint.org/features/2012/10/01/n456_infographic.jp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5519880" y="1844640"/>
            <a:ext cx="3311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young people doing to help the world chang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342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se two easier English texts to find 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Young_people_becoming_more_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Giving_up_our_ideals_is_no_longer_an_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youth2.jpg"/>
          <p:cNvPicPr/>
          <p:nvPr/>
        </p:nvPicPr>
        <p:blipFill>
          <a:blip r:embed="rId1"/>
          <a:stretch/>
        </p:blipFill>
        <p:spPr>
          <a:xfrm>
            <a:off x="6084720" y="1989000"/>
            <a:ext cx="222264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4:05Z</dcterms:created>
  <dc:creator>Mix</dc:creator>
  <dc:description/>
  <dc:language>en-US</dc:language>
  <cp:lastModifiedBy>Linda Ruas</cp:lastModifiedBy>
  <dcterms:modified xsi:type="dcterms:W3CDTF">2014-05-26T20:29:14Z</dcterms:modified>
  <cp:revision>8</cp:revision>
  <dc:subject/>
  <dc:title>Youth</dc:title>
</cp:coreProperties>
</file>